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D64-9CFA-4F5C-8E76-FFB31B6E34F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613E-B251-4CB6-BA0E-DE51EBFC3184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BC8-9C9C-4FA0-A653-5A8C900DC6EC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3664-30DA-450A-9FF6-09CFA342D0B0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9C07-36A8-4A02-99C7-802795F97A6E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490-0C9B-4195-B398-F8D235EA89C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186E-0989-4755-8A54-0BBD21A19594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235-1BD7-45FA-BF98-59FE84938D37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544-F57C-4116-B3B5-5664DF28C81F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8C5-6397-40E0-841A-31055C9308B6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916-D4DC-4C7B-B67E-F8B988D8566B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64E-16FE-40AC-AB67-F74FC1AEB3C9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DA3-7E6F-4287-9F24-EB65E26AE592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3062-FB22-409E-BD49-499BC11E42F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A9D-07FC-4152-ADCF-BB549ECD5A0C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1014-7D26-42FD-A6DE-0D9F487B7071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E217-3421-4911-9C90-504986B82E4F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C0F7-C034-46CB-919D-E52D798C70E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398-180A-49DD-9D0E-CB74C6BA9BF1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B6B0-FE74-4E92-A3CE-D54E6EAD9426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50C-A45A-425A-8B17-B80E29CACBAE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726A-EF7A-4489-828C-382A667C3C9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D53-9687-4E8A-94A0-EEBA495EF5AD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793-E31E-4226-AF57-C86A69B35003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715-8D7D-46E3-A021-19744245E4F4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8FE2-A96C-41CB-A5A5-F3B2400F9E12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32D-107A-45CE-900A-7B6558CCBA13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773-FE32-45F2-B90C-64D25391E163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733-5FB0-4332-AD6D-25DE7F008F1A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2B8E-D0F6-404A-8FAE-3BDA667C0C5F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925-25E1-45B7-BD14-F3EDE1E4D782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CAB3-BB1D-4851-BDFE-FD21B7617347}" type="slidenum">
              <a:rPr b="0" lang="pt-B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DA3-F56B-4901-A009-17B4D276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311-5364-4A01-BBE3-E62F681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803-A8B5-43F3-9E55-365966D3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7E5-F241-4DC1-868C-3E2A6898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67A9-DC56-4218-B752-9279CDCF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39AE-7EFD-4AC3-AA77-F83C114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6901-8690-4328-AD94-86261A7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6B23-5537-4657-8D5D-2216A85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E8E-6A8F-48E3-B237-857243A8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F8AB-77E1-4064-A7E4-7E65BD0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B19-95D2-4AC7-9BBC-68AD1EA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511-0F2F-410D-AD92-787C943D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B93-2842-47A2-9FBC-9674658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57F-E562-4F11-A2E8-F36428E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7A4-6CB1-4E90-AD2B-A2A028B2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2382-70C0-4CC0-93E4-121D69E0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18B2-93B0-4AF1-8B9D-47AB7B7E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4665-18B2-4379-91E9-E7D562BF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A73F-8D6F-412E-83B1-5354E72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9511-B9B7-4D1D-A9F9-C89F5DA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7ED6-B2C6-441F-85D2-6186D06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4214-7499-4DF1-9019-8CB42FD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B4A-45D9-44AA-B26C-E606FED9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B739-B456-4D78-8D24-2A542C90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7319-A603-44B5-BC50-7E225BB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6D1B-47E2-4E38-A2DB-4FC301B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B35E-65EB-40F4-8B8D-0A7B453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F09E-F944-45AB-98A0-1534A8C7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C6AA-2B69-4DC0-882F-629A5207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A265-4E25-436D-93FE-5E97D6BF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84B-FB4A-4680-8F3C-22A4A16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75F-A5B4-4D82-A6C5-2561427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7A4-1370-45D7-B74E-CB35CEE1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B21-96D9-4C53-8CDF-7DB2E94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497-CDC9-411F-8EE8-4A6996E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3E0-0FEF-4E5E-AEFC-2DC23C7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3C5E-F03D-4559-AF5C-50CD620E859C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59C-46FF-42A8-B504-210BCF8D54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6320" y="6248520"/>
            <a:ext cx="8236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F11D-C6F9-4773-B0DC-AFE37CBD69F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www.art-saloon.ru/pictures/set_65.jpg"/>
          <p:cNvPicPr/>
          <p:nvPr/>
        </p:nvPicPr>
        <p:blipFill>
          <a:blip r:embed="rId1"/>
          <a:stretch/>
        </p:blipFill>
        <p:spPr>
          <a:xfrm>
            <a:off x="0" y="2492280"/>
            <a:ext cx="190980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www.art-saloon.ru/pictures/set_65.jpg"/>
          <p:cNvPicPr/>
          <p:nvPr/>
        </p:nvPicPr>
        <p:blipFill>
          <a:blip r:embed="rId2"/>
          <a:stretch/>
        </p:blipFill>
        <p:spPr>
          <a:xfrm>
            <a:off x="7378560" y="2527200"/>
            <a:ext cx="1765440" cy="1801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3"/>
          <p:cNvSpPr/>
          <p:nvPr/>
        </p:nvSpPr>
        <p:spPr>
          <a:xfrm>
            <a:off x="-125280" y="295200"/>
            <a:ext cx="9394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CENTRO UNIVERSITÁRIO DAS FACULDADES ASSOCIADAS DE ENSINO – FA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ão João da Boa Vista – S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1258920" y="119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Engenharia de Produçã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26920" y="2565360"/>
            <a:ext cx="748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3366"/>
                </a:solidFill>
                <a:latin typeface="Arial"/>
              </a:rPr>
              <a:t>Logística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3366"/>
                </a:solidFill>
                <a:latin typeface="Arial"/>
              </a:rPr>
              <a:t>Integrad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9" descr="logo"/>
          <p:cNvPicPr/>
          <p:nvPr/>
        </p:nvPicPr>
        <p:blipFill>
          <a:blip r:embed="rId3"/>
          <a:stretch/>
        </p:blipFill>
        <p:spPr>
          <a:xfrm>
            <a:off x="6732720" y="6093000"/>
            <a:ext cx="2095200" cy="477720"/>
          </a:xfrm>
          <a:prstGeom prst="rect">
            <a:avLst/>
          </a:prstGeom>
          <a:ln w="0">
            <a:noFill/>
          </a:ln>
        </p:spPr>
      </p:pic>
      <p:sp>
        <p:nvSpPr>
          <p:cNvPr id="149" name="CaixaDeTexto 9"/>
          <p:cNvSpPr/>
          <p:nvPr/>
        </p:nvSpPr>
        <p:spPr>
          <a:xfrm>
            <a:off x="2733840" y="522936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of. Luciel Henrique de Olivei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uciel@fae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902-4BA1-4346-98EC-2D81614649BB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arefas Bás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tividades específicas essenciais para o desempenho logístico vão desde o recebimento de pedidos até a condução de um caminhão, abarcando até mesmo as atividades sob a responsabilidade do diretor de logíst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Picture 5" descr="j0299729"/>
          <p:cNvPicPr/>
          <p:nvPr/>
        </p:nvPicPr>
        <p:blipFill>
          <a:blip r:embed="rId1"/>
          <a:stretch/>
        </p:blipFill>
        <p:spPr>
          <a:xfrm>
            <a:off x="3376440" y="4653000"/>
            <a:ext cx="19051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800-F89A-4F7C-949E-7493BE182951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issão da 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logística de uma empresa é um esforço integrado com o objetivo de ajudar a criar valor para o cliente pelo menor custo total possív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logística existe para satisfazer às necessidades dos clientes, facilitando as operações relevantes de produção e market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desafio é equilibrar as expectativas de serviços e os gastos de modo a alcançar os objetivos do negóc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j0297401"/>
          <p:cNvPicPr/>
          <p:nvPr/>
        </p:nvPicPr>
        <p:blipFill>
          <a:blip r:embed="rId1"/>
          <a:stretch/>
        </p:blipFill>
        <p:spPr>
          <a:xfrm>
            <a:off x="6156360" y="20808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66B3-B089-4008-B73E-AADE510E5BC6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rviç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serviço logístico básico é medido em termos 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Disponibilidade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– ter estoque para atender de maneira consistente às necessidades de materiais ou produtos do cl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desempenho operacional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– ao tempo decorrido desde o recebimento de um pedido até a entrega  da respectiva mercad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confiabilidade de serviço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– os atributos de qualidade da log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4" descr="j0299723"/>
          <p:cNvPicPr/>
          <p:nvPr/>
        </p:nvPicPr>
        <p:blipFill>
          <a:blip r:embed="rId1"/>
          <a:stretch/>
        </p:blipFill>
        <p:spPr>
          <a:xfrm>
            <a:off x="6372360" y="135000"/>
            <a:ext cx="2232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76320" y="6248520"/>
            <a:ext cx="823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7E35-9BC5-452A-ADA1-5EC7711FA1F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Integração das Operações Logís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CaixaDeTexto 5"/>
          <p:cNvSpPr/>
          <p:nvPr/>
        </p:nvSpPr>
        <p:spPr>
          <a:xfrm>
            <a:off x="4944960" y="314172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BOWERSOX &amp; CLO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Cap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3170-C6AC-47F0-8DB1-78461911EADB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rabalho da 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competência logística é alcançada pela coordenação 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projeto de re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form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o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rmazenagem, manuseio de materiais e embalag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4" descr="j0312402"/>
          <p:cNvPicPr/>
          <p:nvPr/>
        </p:nvPicPr>
        <p:blipFill>
          <a:blip r:embed="rId1"/>
          <a:stretch/>
        </p:blipFill>
        <p:spPr>
          <a:xfrm>
            <a:off x="6227640" y="3068640"/>
            <a:ext cx="1812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3FA9-9543-4333-B297-5517A303A93A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ojeto de Re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8305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É uma responsabilidade básica da gerência logíst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objetivo do projeto é determinar a quantidade e a localização de todos os tipos de instalações necessárias para a execução do processo logíst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ambém é necessário determinar o tipo de estoque e o volume a ser armazenado em cada instalação, assim como é necessário vincular os pedidos de clientes aos locais de onde deve ser feita a expediçã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ve considerar as diferenças geográf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4" descr="j0250379"/>
          <p:cNvPicPr/>
          <p:nvPr/>
        </p:nvPicPr>
        <p:blipFill>
          <a:blip r:embed="rId1"/>
          <a:stretch/>
        </p:blipFill>
        <p:spPr>
          <a:xfrm>
            <a:off x="5435640" y="260280"/>
            <a:ext cx="31449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F2B7-E9F6-4AAA-82B2-404EDD9DD86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nform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tecnologia atual é capaz de atender aos mais exigentes requisitos de informaçã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vantagem do fluxo rápido de informação está diretamente relacionada com o equilíbrio dos procedimentos de trabalh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anto mais eficiente for o projeto do sistema logístico de uma empresa, mais precisas deverão ser as inform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stemas bem elaborados, não têm excesso  de estoq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4" descr="j0285778"/>
          <p:cNvPicPr/>
          <p:nvPr/>
        </p:nvPicPr>
        <p:blipFill>
          <a:blip r:embed="rId1"/>
          <a:stretch/>
        </p:blipFill>
        <p:spPr>
          <a:xfrm>
            <a:off x="6300720" y="260280"/>
            <a:ext cx="23036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67A9-167B-4E13-AE74-19D3DE51F84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ransport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necessidades de transporte podem ser atendidas de três maneiras básic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de-se operar uma frota exclusiva de veícul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de-se fazer contratos com empresas de transpor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empresa pode contratar os serviços de várias transportador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bd07175_"/>
          <p:cNvPicPr/>
          <p:nvPr/>
        </p:nvPicPr>
        <p:blipFill>
          <a:blip r:embed="rId1"/>
          <a:stretch/>
        </p:blipFill>
        <p:spPr>
          <a:xfrm>
            <a:off x="6084720" y="260280"/>
            <a:ext cx="25210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1BD8-59A1-4ACC-B570-DEB0963679E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Transport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Há três fatores fundamentais para o desempenho do 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usto de 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elocidade do 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sistê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5" descr="j0379081"/>
          <p:cNvPicPr/>
          <p:nvPr/>
        </p:nvPicPr>
        <p:blipFill>
          <a:blip r:embed="rId1"/>
          <a:stretch/>
        </p:blipFill>
        <p:spPr>
          <a:xfrm>
            <a:off x="5508720" y="3645000"/>
            <a:ext cx="3311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D7C2-9D66-4D4F-8622-9814D17A858A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sto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 necessidades de estoque de uma empresa dependem da estrutura de rede e do nível desejado de serviço ao cl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a política de estoque adequada é baseada e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gmentação de cli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pecificidade de prod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tegração do transpor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ecessidades relativas a operações baseadas no temp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empenho competi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Picture 4" descr="j0312412"/>
          <p:cNvPicPr/>
          <p:nvPr/>
        </p:nvPicPr>
        <p:blipFill>
          <a:blip r:embed="rId1"/>
          <a:stretch/>
        </p:blipFill>
        <p:spPr>
          <a:xfrm>
            <a:off x="6227640" y="476280"/>
            <a:ext cx="2232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DBF6-FBF3-45E8-BD42-4D8F7945ABF2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24 horas por dia – 7 dias por semana – 52 semanas por 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u objetivo é tornar disponíveis produtos e serviços no local onde são necessários, no momento em que são desej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iste desde o início da civiliz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j0345325"/>
          <p:cNvPicPr/>
          <p:nvPr/>
        </p:nvPicPr>
        <p:blipFill>
          <a:blip r:embed="rId1"/>
          <a:stretch/>
        </p:blipFill>
        <p:spPr>
          <a:xfrm>
            <a:off x="7020000" y="4653000"/>
            <a:ext cx="1824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4485-BDA9-4C11-B66F-03FA288EC92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rmazenagem, Manuseio de Materiais e Embalag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26920" y="2361960"/>
            <a:ext cx="8066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Quatro das áreas funcionais da logística – projeto de rede, informação, transporte e estoque – podem ser concebidas em uma variedade de arranjos operacionais difer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sas quatro funções combinam-se para criar uma solução sistêmica para a logística integ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9AF-1803-4E48-9229-AF3569269C0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í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5" name="Picture 8" descr="p"/>
          <p:cNvPicPr/>
          <p:nvPr/>
        </p:nvPicPr>
        <p:blipFill>
          <a:blip r:embed="rId1"/>
          <a:stretch/>
        </p:blipFill>
        <p:spPr>
          <a:xfrm>
            <a:off x="755640" y="2492280"/>
            <a:ext cx="770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I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materi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STRIBUIÇÃO FI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POIO Á MANUFA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UPR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LUXOS DE PLANEJAMENTO E COORDEN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ECESSIDADES OPERACION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DB90-F03C-4311-86A9-314478BF0DB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I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LUXOS DE PLANEJAMENTO E COORDEN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Limitações de capaci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s Logís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osicionamento de Esto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s de Fabrica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s de Supr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jeçõ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BA5-C107-4D51-A680-32FBD9C1D2C7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ISTICA INTEGR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lux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ECESSIDADES OPERACION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Gerenciamento de ped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ssamento de ped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perações de distribui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Gerenciamento de esto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Transporte e expedi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upriment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20B7-60EC-4C3B-AA6D-F06722B3F74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0298-333B-4EAA-9127-A98A78587EFC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Necessidades de Informações Logís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4" descr="ap"/>
          <p:cNvPicPr/>
          <p:nvPr/>
        </p:nvPicPr>
        <p:blipFill>
          <a:blip r:embed="rId1"/>
          <a:stretch/>
        </p:blipFill>
        <p:spPr>
          <a:xfrm>
            <a:off x="971640" y="2276640"/>
            <a:ext cx="763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Objetivos operacion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SPOSTA RÁP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ARIÂNCIA MÍN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OQUE MÍ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SOLIDAÇÃO E MOVIMENT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QUAL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POIO AO CICLO DE V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Espaço Reservado para Rodapé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05B-F11F-4E6F-8EF4-ABE8DA4C852E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1E73-D4A1-4168-99EF-4677BBDFB71C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iclos de Atividades Logís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Picture 4" descr="aa"/>
          <p:cNvPicPr/>
          <p:nvPr/>
        </p:nvPicPr>
        <p:blipFill>
          <a:blip r:embed="rId1"/>
          <a:stretch/>
        </p:blipFill>
        <p:spPr>
          <a:xfrm>
            <a:off x="1258920" y="1428840"/>
            <a:ext cx="67690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Barreiras à integração inter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rutura organiza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istemas de mensur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priedade do esto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ecnologia de inform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apacidade de Transferência de conhecime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Espaço Reservado para Rodapé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700-6375-4E50-ADCB-206BE48E55A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ICLOS DE ATIVIDADE LOGÍST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DISTRIBUIÇÃO FÍ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APOIO Á MANUFA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SUPR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Espaço Reservado para Rodapé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Espaço Reservado para Número de Slide 4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AD94-2709-44DF-9F46-9FA6894E2412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03E-9DB5-4D75-A551-FD96074B62FE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ogística envolv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gração de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oqu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rmazen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nuseio de materi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balag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a importância: cresce o número de executivos bem sucedidos na á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j0312412"/>
          <p:cNvPicPr/>
          <p:nvPr/>
        </p:nvPicPr>
        <p:blipFill>
          <a:blip r:embed="rId1"/>
          <a:stretch/>
        </p:blipFill>
        <p:spPr>
          <a:xfrm>
            <a:off x="6084720" y="2924280"/>
            <a:ext cx="2608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CDC-193B-4680-B7C9-009144A5B36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5480" y="68436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Estrutura de uma rede logística flexível multifacetad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8" name="Picture 4" descr="aq"/>
          <p:cNvPicPr/>
          <p:nvPr/>
        </p:nvPicPr>
        <p:blipFill>
          <a:blip r:embed="rId1"/>
          <a:stretch/>
        </p:blipFill>
        <p:spPr>
          <a:xfrm>
            <a:off x="1265400" y="1614600"/>
            <a:ext cx="683568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AEAC-118D-45B5-BB50-BFC4979EE4F6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Atividades do ciclo básico de atividades da distribuição fís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aw"/>
          <p:cNvPicPr/>
          <p:nvPr/>
        </p:nvPicPr>
        <p:blipFill>
          <a:blip r:embed="rId1"/>
          <a:stretch/>
        </p:blipFill>
        <p:spPr>
          <a:xfrm>
            <a:off x="755640" y="2238480"/>
            <a:ext cx="78487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60C7-D8E4-4C43-B621-C121A55E438C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Logística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Seu desafi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ornar os resultados combinados da integração interna e externa numa das competências centrais da empre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Logística agrega valor quando o estoque é corretamente posicionado para facilitar as ven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4" descr="j0312404"/>
          <p:cNvPicPr/>
          <p:nvPr/>
        </p:nvPicPr>
        <p:blipFill>
          <a:blip r:embed="rId1"/>
          <a:stretch/>
        </p:blipFill>
        <p:spPr>
          <a:xfrm>
            <a:off x="4932360" y="765000"/>
            <a:ext cx="295272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010F-6A02-40D2-A49A-8FF25AB02480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Logística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Seu interess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reender como certas empresas utilizam sua competência logística para obterem vantagem competiti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mpresas líderes possuem, sistemas de informação capazes de monitorar seu desempenho logístico em tempo real, o que lhes possibilita identificar possíveis falhas operacionais e adotar providências corretivas antes da ocorrência de falhas no serviço a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4" descr="j0312402"/>
          <p:cNvPicPr/>
          <p:nvPr/>
        </p:nvPicPr>
        <p:blipFill>
          <a:blip r:embed="rId1"/>
          <a:stretch/>
        </p:blipFill>
        <p:spPr>
          <a:xfrm>
            <a:off x="6732720" y="404640"/>
            <a:ext cx="1812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C20-673D-4B1A-8C59-42DFB94B7D8D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Logís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clui o projeto e a administração de sistemas para controlar o fluxo de materiais,      os estoques em processo e os produtos acabados com o objetivo de fortalecer a estratégia das unidades de negócios da empre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objetivo central da logística é atingir um nível desejado de serviço ao cliente pelo menor custo total possí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5" descr="j0312398"/>
          <p:cNvPicPr/>
          <p:nvPr/>
        </p:nvPicPr>
        <p:blipFill>
          <a:blip r:embed="rId1"/>
          <a:stretch/>
        </p:blipFill>
        <p:spPr>
          <a:xfrm>
            <a:off x="7164360" y="476280"/>
            <a:ext cx="166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EAF-77CD-4F1E-8510-F6E8209383AF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etência Logística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2362320"/>
            <a:ext cx="8675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É desenvolver uma estrutura analítica integrada que defina e relacione conceitos-cha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pessoas ligadas ao trabalho quotidiano de logística possuam entendimento básico do modo como suas funções específicas se encaixam no to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a decorre de uma avaliação relativa da capacitação de uma empresa para fornecer ao cliente um serviço competitivamente superior ao menor custo total possív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4" descr="j0299741"/>
          <p:cNvPicPr/>
          <p:nvPr/>
        </p:nvPicPr>
        <p:blipFill>
          <a:blip r:embed="rId1"/>
          <a:stretch/>
        </p:blipFill>
        <p:spPr>
          <a:xfrm>
            <a:off x="6856560" y="333360"/>
            <a:ext cx="1665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1EEE-0C62-4A73-8AE3-319D0268E5CD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etência Logística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26920" y="2362320"/>
            <a:ext cx="81727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expectativas ligadas à competência logística dependem diretamente do posicionamento estratégico da empre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odas as empresas devem executar atividades logísticas para atingir seus objetivos empresariais básic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Quando a logística se torna parte fundamental da estratégia empresarial, ela deve ser administrada como uma competência centr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j0299739"/>
          <p:cNvPicPr/>
          <p:nvPr/>
        </p:nvPicPr>
        <p:blipFill>
          <a:blip r:embed="rId1"/>
          <a:stretch/>
        </p:blipFill>
        <p:spPr>
          <a:xfrm>
            <a:off x="6659640" y="404640"/>
            <a:ext cx="2179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ço Reservado para Rodapé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SI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Espaço Reservado para Número de Slide 5"/>
          <p:cNvSpPr/>
          <p:nvPr/>
        </p:nvSpPr>
        <p:spPr>
          <a:xfrm>
            <a:off x="84240" y="6242040"/>
            <a:ext cx="1031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3645-EAF5-45FA-BF4D-24717C94034A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Hierarquia da Integração Log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cessos universalmente adotados e posicionamento estratég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riação de valor para o cli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laneja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ro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inui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etê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iclo de a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un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rabalho bás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4" descr="j0250194"/>
          <p:cNvPicPr/>
          <p:nvPr/>
        </p:nvPicPr>
        <p:blipFill>
          <a:blip r:embed="rId1"/>
          <a:stretch/>
        </p:blipFill>
        <p:spPr>
          <a:xfrm>
            <a:off x="5796000" y="3500280"/>
            <a:ext cx="2692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08:19Z</dcterms:created>
  <dc:creator>profccsa</dc:creator>
  <dc:description/>
  <dc:language>en-US</dc:language>
  <cp:lastModifiedBy>LUCIEL</cp:lastModifiedBy>
  <dcterms:modified xsi:type="dcterms:W3CDTF">2012-08-10T21:57:38Z</dcterms:modified>
  <cp:revision>20</cp:revision>
  <dc:subject/>
  <dc:title>Logística</dc:title>
</cp:coreProperties>
</file>